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81E-C624-4C59-9088-7EF0BA48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259-D95B-49ED-B8AA-D0DFCBC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DB2-6CFD-4B35-A407-42E5CCA2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9C4-CABA-4294-9D9B-124F08CD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67047-2AE9-4042-8BDC-0A3A0732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854CF-8D95-4591-93F9-2C1AD1BD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B661A-2E6B-4468-8884-418777BD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DE68A-A9CC-4C64-ABF4-84C2B1E3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D4F63-AB3E-430A-960E-ADFDAEA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F7C85-C327-4EDB-B4B1-1BE31552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F21F0-C27D-4BF0-A5C6-910B3965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EE4A-7695-4EE2-9FC1-09DC782D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8A0CA-2EB9-4922-897B-9C02C55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E59B6-FD4A-4DB6-9173-8D755739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B1473-8234-4525-A6FA-983B2C5E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65137F-A38D-4FC8-A82D-81DE8059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121AC-A64D-4020-B8E1-9E37B46D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3E1-28EE-4962-AD26-42CAD546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C2D-F85C-42D2-926D-98CC7FB2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EC9-AA27-4CB0-B656-D654F13B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F7D-12BD-42A4-A04D-A0D18353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25B-5EED-4C70-AF11-92EBC15F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70C-91D0-492C-AF63-8D2C55B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024-1F22-4A36-B6FF-B2A982A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0341-599F-41CA-A5C2-5D7900327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19FE-6B93-4308-9C07-BC2B436C21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ACE THE MUSIC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2096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au Lari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. cu cls. I-VIII Suceagu,Bac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mus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ical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musical instrumen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itar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ano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mpet 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33920" y="1828800"/>
            <a:ext cx="38098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favourite type of mus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FAVOURITE MUSIC IS COUNTRY AND WESTE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TS 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DVANTAGES AND 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EXTRA INFORMATION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y favourite sing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favourite singer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/her qualiti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/her best song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xamp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15Z</dcterms:created>
  <dc:creator>Cursant10</dc:creator>
  <dc:description/>
  <dc:language>en-US</dc:language>
  <cp:lastModifiedBy>Cursant10</cp:lastModifiedBy>
  <dcterms:modified xsi:type="dcterms:W3CDTF">2010-08-25T11:57:00Z</dcterms:modified>
  <cp:revision>2</cp:revision>
  <dc:subject/>
  <dc:title>FACE THE MUSIC</dc:title>
</cp:coreProperties>
</file>